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botz%20Menu%20Popup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334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4191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3.xml"/><Relationship Id="rId3" Type="http://schemas.openxmlformats.org/officeDocument/2006/relationships/slide" Target="slide40.xml"/><Relationship Id="rId4" Type="http://schemas.openxmlformats.org/officeDocument/2006/relationships/slide" Target="slide37.xml"/><Relationship Id="rId5" Type="http://schemas.openxmlformats.org/officeDocument/2006/relationships/slide" Target="slide34.xml"/><Relationship Id="rId6" Type="http://schemas.openxmlformats.org/officeDocument/2006/relationships/slide" Target="slide31.xml"/><Relationship Id="rId7" Type="http://schemas.openxmlformats.org/officeDocument/2006/relationships/slide" Target="slide28.xml"/><Relationship Id="rId8" Type="http://schemas.openxmlformats.org/officeDocument/2006/relationships/slide" Target="slide25.xml"/><Relationship Id="rId9" Type="http://schemas.openxmlformats.org/officeDocument/2006/relationships/slide" Target="slide22.xml"/><Relationship Id="rId10" Type="http://schemas.openxmlformats.org/officeDocument/2006/relationships/slide" Target="slide19.xml"/><Relationship Id="rId11" Type="http://schemas.openxmlformats.org/officeDocument/2006/relationships/slide" Target="slide16.xml"/><Relationship Id="rId12" Type="http://schemas.openxmlformats.org/officeDocument/2006/relationships/slide" Target="slide13.xml"/><Relationship Id="rId13" Type="http://schemas.openxmlformats.org/officeDocument/2006/relationships/slide" Target="slide10.xml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ER.WAV" TargetMode="Externa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9.xml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slide" Target="slide43.xml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19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43.xml"/><Relationship Id="rId9" Type="http://schemas.openxmlformats.org/officeDocument/2006/relationships/slide" Target="slide43.xml"/><Relationship Id="rId10" Type="http://schemas.openxmlformats.org/officeDocument/2006/relationships/slide" Target="slide43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4.xml"/><Relationship Id="rId13" Type="http://schemas.openxmlformats.org/officeDocument/2006/relationships/slide" Target=""/><Relationship Id="rId14" Type="http://schemas.openxmlformats.org/officeDocument/2006/relationships/slide" Target="slide6.xml"/><Relationship Id="rId15" Type="http://schemas.openxmlformats.org/officeDocument/2006/relationships/slide" Target="slide43.xml"/><Relationship Id="rId16" Type="http://schemas.openxmlformats.org/officeDocument/2006/relationships/slide" Target="slide43.xml"/><Relationship Id="rId17" Type="http://schemas.openxmlformats.org/officeDocument/2006/relationships/slide" Target="slide43.xml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audio" Target="../media/Robotz%20Menu%20Popup.wav"/><Relationship Id="rId21" Type="http://schemas.openxmlformats.org/officeDocument/2006/relationships/audio" Target="../media/Robotz%20Menu%20Popup.wav"/><Relationship Id="rId2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4.xml"/><Relationship Id="rId7" Type="http://schemas.openxmlformats.org/officeDocument/2006/relationships/slide" Target=""/><Relationship Id="rId8" Type="http://schemas.openxmlformats.org/officeDocument/2006/relationships/slide" Target="slide6.xml"/><Relationship Id="rId9" Type="http://schemas.openxmlformats.org/officeDocument/2006/relationships/slide" Target="slide43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5.xml"/><Relationship Id="rId9" Type="http://schemas.openxmlformats.org/officeDocument/2006/relationships/slide" Target="slide19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3.xml"/><Relationship Id="rId13" Type="http://schemas.openxmlformats.org/officeDocument/2006/relationships/slide" Target="slide43.xml"/><Relationship Id="rId14" Type="http://schemas.openxmlformats.org/officeDocument/2006/relationships/slide" Target="slide43.xml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Prize 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3" action="ppaction://hlinksldjump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4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19520"/>
            <a:ext cx="853416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bout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47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Job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Wahima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Mark Zuckerbu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people a year in the U.S die from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547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849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nvited the compu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Tom 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k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one of these car makers is Brit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Lo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lo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teams are in the NF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year did windows XP come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people a year in the U.S die from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100,6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547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people a year in the U.S die from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Job Wah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Jenny Jack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the first shoe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color photography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19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18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keys are in the average keybo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About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About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the first car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19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18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the NFL form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6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. 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the Constitution writ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September, 17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. November, 178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people a year in the U.S. die from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 547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100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894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color photography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197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19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188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one of these car makers is Brit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Che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Lo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 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the NFL form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7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6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 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18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what year was the Constitution wro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September, 178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Januar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, 2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 November, 17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September, 18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created Goo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mith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oh Wah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Shenequa Jan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Jeny Jack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the first shoe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1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teams are in the NF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4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was the 4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presi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Marti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Vanbure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B.Ja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Madi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Ronald Re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George Washing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year did windows XP come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2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ichael Jack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the first car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176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 18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.19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nvented the compu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om 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4952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B Lyn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lu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Teddy rosev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.Unk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o was the creator of face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Cheyann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Witfiel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 tina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Joh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D.Mar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Zuckerberg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3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7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wrote thril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B. Pr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Michae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Jack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was the first coin-operated arcade g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Pac-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Galaxy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wrote thril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Darius Ru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Pr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C. Michael Jack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D. Leonar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Dicap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was the first coin-operated arcade g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pa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-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ga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C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rebuchet MS"/>
                <a:hlinkClick r:id="rId7" action="ppaction://hlinksldjump"/>
              </a:rPr>
              <a:t>Galaxy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Metal s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3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18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9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alaxy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7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9T06:19:56Z</dcterms:created>
  <dc:creator>FH Media</dc:creator>
  <dc:description/>
  <dc:language>en-US</dc:language>
  <cp:lastModifiedBy>MILLGAB</cp:lastModifiedBy>
  <dcterms:modified xsi:type="dcterms:W3CDTF">2010-11-16T13:33:56Z</dcterms:modified>
  <cp:revision>83</cp:revision>
  <dc:subject/>
  <dc:title>No Slide Title</dc:title>
</cp:coreProperties>
</file>